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966-E531-4A6D-AE85-B9E18603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048-6F80-40DE-A054-E5EAB0BA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C4C-E2B9-4331-ADB6-AB8D15E2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752-B0B6-4D95-B523-FF669A80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5D1-ED78-45A6-9505-E5ED1A9F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A45-DD04-47D5-99E5-E8E670A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8D8-9985-4E0C-891B-F6A1DAF5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376-5506-42AE-981F-3EBBF778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B44-AA4B-4943-9285-7D33EF3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DFA-7972-44CF-A293-29967CD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A78-6E73-40DE-8787-BF70CCB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7FB-A260-4DCA-B572-06544E3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CF8D-AFD6-4D0E-90FA-226409DA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97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407664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млетряс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424160" y="1692360"/>
            <a:ext cx="6292800" cy="3449880"/>
            <a:chOff x="1424160" y="1692360"/>
            <a:chExt cx="6292800" cy="3449880"/>
          </a:xfrm>
        </p:grpSpPr>
        <p:sp>
          <p:nvSpPr>
            <p:cNvPr id="74" name="_s13318"/>
            <p:cNvSpPr/>
            <p:nvPr/>
          </p:nvSpPr>
          <p:spPr>
            <a:xfrm>
              <a:off x="3719520" y="2305080"/>
              <a:ext cx="1701720" cy="17506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3319"/>
            <p:cNvSpPr/>
            <p:nvPr/>
          </p:nvSpPr>
          <p:spPr>
            <a:xfrm>
              <a:off x="3719520" y="1692360"/>
              <a:ext cx="170172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ОССИЯ: 12-балльная шкала МSK-6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(Медведева-Шпонхойера-Карника)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3320"/>
            <p:cNvSpPr/>
            <p:nvPr/>
          </p:nvSpPr>
          <p:spPr>
            <a:xfrm>
              <a:off x="4280040" y="3305160"/>
              <a:ext cx="1701720" cy="17506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3321"/>
            <p:cNvSpPr/>
            <p:nvPr/>
          </p:nvSpPr>
          <p:spPr>
            <a:xfrm>
              <a:off x="6014880" y="4704840"/>
              <a:ext cx="17020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АМЕРИ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0-балльная шка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осси-Фор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3322"/>
            <p:cNvSpPr/>
            <p:nvPr/>
          </p:nvSpPr>
          <p:spPr>
            <a:xfrm>
              <a:off x="3157560" y="3303000"/>
              <a:ext cx="1701720" cy="17506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3323"/>
            <p:cNvSpPr/>
            <p:nvPr/>
          </p:nvSpPr>
          <p:spPr>
            <a:xfrm>
              <a:off x="1424160" y="4704840"/>
              <a:ext cx="170172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ЯПОНИЯ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-балльная шкал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476360" y="6166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ейсмические шкалы мир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136440"/>
            <a:ext cx="83534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л — Проявление на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53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Не ощущается никем, регистрируется только сейсмическими приб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Ощущается иногда людьми, находящимися в спокой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— Ощущается немногими, более сильно проявляется в помещении на верхних этаж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— Ощущается многими (особенно в помещении), в ночное время некоторые просыпаются. Возможен звон посуды, дребезжание стекол, хлопки д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— Ощущается почти всеми, многие ночью просыпаются. Качание висячих предметов, трещины в оконных стеклах и штукату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— Ощущается всеми, осыпается штукатурка, легкие разрушения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744840"/>
            <a:ext cx="79912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Трещины в штукатурке и откалывание отдельных кусков, тонкие трещины в стенах. Толчки ощущаются в автомоби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Большие трещины в стенах, падение труб, памятников. Трещины на крутых склонах и на сырой поч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— Обрушение стен, перекрытий кровли в некоторых зданиях, разрывы подземных трубопро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Обвалы многих зданий, искривление железнодорожных рельсов. Оползни, обвалы, трещины (до 1 м) в гру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Многочисленные широкие трещины в земле, обвалы в горах, обрушение мостов, только немногие каменные здания сохраняют устой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Значительные изменения рельефа, отклонение течения рек, предметы подбрасываются в воздух, тотальное разрушение соору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чему люди гибнут при землетряс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землетрясения происходят в море, то они могут вызвать разрушительные волны — цунами, наиболее часто опустошающие побережья Тихого океана, как это произошло в 1933 в Японии и в 1952 на Камчат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4000" y="260280"/>
            <a:ext cx="1742760" cy="1681200"/>
            <a:chOff x="324000" y="260280"/>
            <a:chExt cx="1742760" cy="1681200"/>
          </a:xfrm>
        </p:grpSpPr>
        <p:sp>
          <p:nvSpPr>
            <p:cNvPr id="85" name="Puzzle3"/>
            <p:cNvSpPr/>
            <p:nvPr/>
          </p:nvSpPr>
          <p:spPr>
            <a:xfrm>
              <a:off x="1172520" y="26028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2"/>
            <p:cNvSpPr/>
            <p:nvPr/>
          </p:nvSpPr>
          <p:spPr>
            <a:xfrm>
              <a:off x="973440" y="911160"/>
              <a:ext cx="109332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uzzle4"/>
            <p:cNvSpPr/>
            <p:nvPr/>
          </p:nvSpPr>
          <p:spPr>
            <a:xfrm>
              <a:off x="550080" y="90108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uzzle1"/>
            <p:cNvSpPr/>
            <p:nvPr/>
          </p:nvSpPr>
          <p:spPr>
            <a:xfrm>
              <a:off x="324000" y="53028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число жер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етрясений на планете за последние 500 лет составило около 5 млн. чел., почти половина из них приходится на Китай. Большие потери при землетрясениях обычно связаны с высокой плотностью населения, примитивными методами строительства, особенно характерными для бедных рай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020000" y="189000"/>
            <a:ext cx="1743120" cy="1681200"/>
            <a:chOff x="7020000" y="189000"/>
            <a:chExt cx="1743120" cy="1681200"/>
          </a:xfrm>
        </p:grpSpPr>
        <p:sp>
          <p:nvSpPr>
            <p:cNvPr id="91" name="Puzzle3"/>
            <p:cNvSpPr/>
            <p:nvPr/>
          </p:nvSpPr>
          <p:spPr>
            <a:xfrm>
              <a:off x="7868880" y="18900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uzzle2"/>
            <p:cNvSpPr/>
            <p:nvPr/>
          </p:nvSpPr>
          <p:spPr>
            <a:xfrm>
              <a:off x="7669440" y="83988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uzzle4"/>
            <p:cNvSpPr/>
            <p:nvPr/>
          </p:nvSpPr>
          <p:spPr>
            <a:xfrm>
              <a:off x="7246080" y="82980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uzzle1"/>
            <p:cNvSpPr/>
            <p:nvPr/>
          </p:nvSpPr>
          <p:spPr>
            <a:xfrm>
              <a:off x="7020000" y="45900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зно также воспользоваться советом — во время землетрясения не выбегать на улицу, а лучше укрыться в дверном проеме или под крепкой плитой или доской (столом), способных выдержать вес обрушивающегося гру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48360" y="4797360"/>
            <a:ext cx="1743120" cy="1681200"/>
            <a:chOff x="6948360" y="4797360"/>
            <a:chExt cx="1743120" cy="1681200"/>
          </a:xfrm>
        </p:grpSpPr>
        <p:sp>
          <p:nvSpPr>
            <p:cNvPr id="97" name="Puzzle3"/>
            <p:cNvSpPr/>
            <p:nvPr/>
          </p:nvSpPr>
          <p:spPr>
            <a:xfrm>
              <a:off x="7797240" y="479736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uzzle2"/>
            <p:cNvSpPr/>
            <p:nvPr/>
          </p:nvSpPr>
          <p:spPr>
            <a:xfrm>
              <a:off x="7597800" y="544824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uzzle4"/>
            <p:cNvSpPr/>
            <p:nvPr/>
          </p:nvSpPr>
          <p:spPr>
            <a:xfrm>
              <a:off x="7174440" y="543816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uzzle1"/>
            <p:cNvSpPr/>
            <p:nvPr/>
          </p:nvSpPr>
          <p:spPr>
            <a:xfrm>
              <a:off x="6948360" y="506736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йсмо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ервые инструментальные наблюдения появились в Китае, где в 132 Чан Хен изобрел сейсмоскоп, представлявший собой искусно сделанный сосуд. На внешней стороне сосуда, с размещенным внутри маятником, по кругу были выгравированы головы драконов, держащих в пасти шарики. При качании маятника от землетрясения один или несколько шариков выпадали в открытые рты лягушек, размещенных у основания сосудов таким образом, чтобы лягушки могли их прогло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ременный сейсмограф представляет собой комплект приборов, регистрирующих колебания грунта при землетрясении и преобразующих их в электрический сигнал, записываемый на сейсмограммах в аналоговой и цифровой форме. Однако, по-прежнему, основным чувствительным элементом служит маятник с гру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948360" y="620640"/>
            <a:ext cx="1743120" cy="1681200"/>
            <a:chOff x="6948360" y="620640"/>
            <a:chExt cx="1743120" cy="1681200"/>
          </a:xfrm>
        </p:grpSpPr>
        <p:sp>
          <p:nvSpPr>
            <p:cNvPr id="104" name="Puzzle3"/>
            <p:cNvSpPr/>
            <p:nvPr/>
          </p:nvSpPr>
          <p:spPr>
            <a:xfrm>
              <a:off x="7797240" y="62064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uzzle2"/>
            <p:cNvSpPr/>
            <p:nvPr/>
          </p:nvSpPr>
          <p:spPr>
            <a:xfrm>
              <a:off x="7597800" y="127152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uzzle4"/>
            <p:cNvSpPr/>
            <p:nvPr/>
          </p:nvSpPr>
          <p:spPr>
            <a:xfrm>
              <a:off x="7174440" y="126144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uzzle1"/>
            <p:cNvSpPr/>
            <p:nvPr/>
          </p:nvSpPr>
          <p:spPr>
            <a:xfrm>
              <a:off x="6948360" y="89064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ения за землетряс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утся с древнейших вре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альные исторические опис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 свидетельствующие о землетрясениях с сер. 1 тыс. до н. э., даны японцами. Большое внимание сейсмичности уделяли и античные ученые — Аристотель и др. Систематические инструментальные наблюдения, начатые во 2-ой пол. 19 в., привели к выделению сейсмологии в самостоятельную науку (Б. Б. Голицын, Э. Вихерт, Б. Гутенберг, А. Мохоровичич, Ф. Омори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сии пока не угрожает данная проблема, но нужно быть готовым к любым неожиданностям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знь полна неожиданностей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ьте на чай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!!!!!!!!!!!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ЕМЛЕТРЯС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одземные толчки и колебания земной поверхности, возникающие в результате внезапных смещений и разрывов в земной коре или верхней части мантии и передающиеся на большие расстояния в виде упругих колеб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380360" y="5013360"/>
            <a:ext cx="1296720" cy="1366920"/>
            <a:chOff x="7380360" y="5013360"/>
            <a:chExt cx="1296720" cy="1366920"/>
          </a:xfrm>
        </p:grpSpPr>
        <p:sp>
          <p:nvSpPr>
            <p:cNvPr id="45" name="Puzzle3"/>
            <p:cNvSpPr/>
            <p:nvPr/>
          </p:nvSpPr>
          <p:spPr>
            <a:xfrm>
              <a:off x="8011800" y="5013360"/>
              <a:ext cx="509760" cy="7264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Puzzle2"/>
            <p:cNvSpPr/>
            <p:nvPr/>
          </p:nvSpPr>
          <p:spPr>
            <a:xfrm>
              <a:off x="7863480" y="5542560"/>
              <a:ext cx="813600" cy="6616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Puzzle4"/>
            <p:cNvSpPr/>
            <p:nvPr/>
          </p:nvSpPr>
          <p:spPr>
            <a:xfrm>
              <a:off x="7548840" y="5534280"/>
              <a:ext cx="490680" cy="8460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uzzle1"/>
            <p:cNvSpPr/>
            <p:nvPr/>
          </p:nvSpPr>
          <p:spPr>
            <a:xfrm>
              <a:off x="7380360" y="5232960"/>
              <a:ext cx="824040" cy="504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нсивность землетрясений оцениваетс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йсмических балл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о два главных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ейсмических поя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ихоокеан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хватывающий кольцом берега Тихого ок.,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редиземномор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остирающийся через юг Евразии от Пиренейского п-ова на запад до Малайского арх. на восто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164360" y="189000"/>
            <a:ext cx="1743120" cy="1681200"/>
            <a:chOff x="7164360" y="189000"/>
            <a:chExt cx="1743120" cy="1681200"/>
          </a:xfrm>
        </p:grpSpPr>
        <p:sp>
          <p:nvSpPr>
            <p:cNvPr id="51" name="Puzzle3"/>
            <p:cNvSpPr/>
            <p:nvPr/>
          </p:nvSpPr>
          <p:spPr>
            <a:xfrm>
              <a:off x="8013240" y="18900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uzzle2"/>
            <p:cNvSpPr/>
            <p:nvPr/>
          </p:nvSpPr>
          <p:spPr>
            <a:xfrm>
              <a:off x="7813800" y="83988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uzzle4"/>
            <p:cNvSpPr/>
            <p:nvPr/>
          </p:nvSpPr>
          <p:spPr>
            <a:xfrm>
              <a:off x="7390440" y="82980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1"/>
            <p:cNvSpPr/>
            <p:nvPr/>
          </p:nvSpPr>
          <p:spPr>
            <a:xfrm>
              <a:off x="7164360" y="45900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иболее известные катастрофические землетряс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ссабонское 175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лифорнийское 190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синское 190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шхабадское 194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лийское 196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ншанское 197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янское 198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ранское 19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659640" y="2276640"/>
            <a:ext cx="1743120" cy="1680480"/>
            <a:chOff x="6659640" y="2276640"/>
            <a:chExt cx="1743120" cy="1680480"/>
          </a:xfrm>
        </p:grpSpPr>
        <p:sp>
          <p:nvSpPr>
            <p:cNvPr id="57" name="Puzzle3"/>
            <p:cNvSpPr/>
            <p:nvPr/>
          </p:nvSpPr>
          <p:spPr>
            <a:xfrm>
              <a:off x="7508520" y="2276640"/>
              <a:ext cx="685080" cy="8931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2"/>
            <p:cNvSpPr/>
            <p:nvPr/>
          </p:nvSpPr>
          <p:spPr>
            <a:xfrm>
              <a:off x="7309080" y="292716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4"/>
            <p:cNvSpPr/>
            <p:nvPr/>
          </p:nvSpPr>
          <p:spPr>
            <a:xfrm>
              <a:off x="6885720" y="2917080"/>
              <a:ext cx="659160" cy="10400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1"/>
            <p:cNvSpPr/>
            <p:nvPr/>
          </p:nvSpPr>
          <p:spPr>
            <a:xfrm>
              <a:off x="6659640" y="2546640"/>
              <a:ext cx="1107000" cy="6199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де и почему происходят землетрясени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йоны распространения землетрясений в России. Интерактивн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альное распределение землетрясений неравномерно. Оно определяется перемещением и взаимодействием литосферных плит. Главный сейсмический пояс, в котором выделяется до 80% всей сейсмической энергии, расположен в Тихом океане в районе глубоководных желобов, где происходит подвигание холодных литосферных плит под континент. Остальная энергия выделяется в Евроазиатском складчатом поясе в местах столкновения Евроазиатской плиты с Индийской и Африканской плитами и в районах срединно-океанических хребтов в условиях растяжения лито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12740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араметры землетряс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412740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аги землетрясений располагаются на глубинах до 700 км, но большая часть (3/4) сейсмической энергии выделяется в очагах, находящихся на глубине до 7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412740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460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ер очага катастрофических землетрясений может достигать 100x1000 км. Его положение и место начала перемещения масс (гипоцентр) определяют путем регистрации сейсмических волн, возникающих при землетрясениях (у слабых землетрясений очаг и гипоцентр совпадают). Проекция гипоцентра на земную поверхность именуется эпицентром. Вокруг него располагается область наибольших разрушений (эпицентральная, или плейстосейстовая, обла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нсивность проявления землетрясений на поверхности измеряется в баллах и зависит от глубины очага и магнитуды землетрясения, служащей мерой его энергии. Максимальное известное значение магнитуды приближается 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93080" y="4653000"/>
            <a:ext cx="1743120" cy="1681200"/>
            <a:chOff x="7093080" y="4653000"/>
            <a:chExt cx="1743120" cy="1681200"/>
          </a:xfrm>
        </p:grpSpPr>
        <p:sp>
          <p:nvSpPr>
            <p:cNvPr id="69" name="Puzzle3"/>
            <p:cNvSpPr/>
            <p:nvPr/>
          </p:nvSpPr>
          <p:spPr>
            <a:xfrm>
              <a:off x="7941960" y="465300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2"/>
            <p:cNvSpPr/>
            <p:nvPr/>
          </p:nvSpPr>
          <p:spPr>
            <a:xfrm>
              <a:off x="7742520" y="530388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uzzle4"/>
            <p:cNvSpPr/>
            <p:nvPr/>
          </p:nvSpPr>
          <p:spPr>
            <a:xfrm>
              <a:off x="7319160" y="529380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uzzle1"/>
            <p:cNvSpPr/>
            <p:nvPr/>
          </p:nvSpPr>
          <p:spPr>
            <a:xfrm>
              <a:off x="7093080" y="492300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9:34:45Z</dcterms:created>
  <dc:creator>Анастасия</dc:creator>
  <dc:description/>
  <dc:language>en-US</dc:language>
  <cp:lastModifiedBy>Анастасия</cp:lastModifiedBy>
  <dcterms:modified xsi:type="dcterms:W3CDTF">2009-04-20T03:32:24Z</dcterms:modified>
  <cp:revision>5</cp:revision>
  <dc:subject/>
  <dc:title>Слайд 1</dc:title>
</cp:coreProperties>
</file>